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etros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09-21T14:59:34.390000000" idx="1">
    <p:pos x="5567" y="367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97D1-30C9-42C6-B9EB-EB97AF1152D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BFF9-064B-46DA-9B64-FE3F4BF380F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9FA-21B2-4E47-AA52-34554344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E0B-ADEC-400F-B794-24B512F8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19E-95F2-46F7-970E-4D5AFAEB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EF6-232E-43F9-B3A1-D0FE3490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D3E8-AEDA-488D-8ABA-F3572742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BF8F-E9E7-4C70-9BBF-2E095CAA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1E14-4B1E-4520-90E9-BD6431A7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75BF-0E36-499D-A466-59807BC0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7C01-AE37-4BEC-B385-BAA87642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7A3F-AA23-47E4-93E4-31EB927A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822F-F070-4999-A823-CE08BB2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BBE-2258-4639-A258-24430FF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4155-1DE1-492F-81B4-97967A5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365-E131-4AC9-B444-6D4B6DF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28C0-0CF2-46ED-B79F-F7EDD0B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8EFC-0D1C-443D-8005-2B4C82B2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84D1-27B6-45DA-A88F-08D31F7B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39F0-E8D1-4234-B927-4BD4A73A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26DC-6B80-49BC-8C68-4BF21F0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4CE4-F4BC-4EC9-B7C4-303943C7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8C0E-55D3-4BF1-A7D1-6C19B051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DA81-1480-45DB-9C58-E509C7F2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79F-7863-48FF-835C-2379CCD1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6FBE-D315-42F3-953A-EDD5AC6E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61DC-60EA-4F29-B487-77269AB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64EE-0BF0-45DB-B6D2-F8E32A1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05ED-663B-4565-9154-09DB963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C3DD-4038-480D-A221-65A47C31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3113-8492-4228-AC4C-5D009C43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B982-F4E9-4FF4-BA33-B4B790E9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6B92-7D4E-488E-8543-1723AD21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1FBE-F348-45A6-9F07-D32624B7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90C7-69AE-40E6-A144-A465621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39F-E583-4328-8D05-6F57975B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51E5-00B2-430C-A6FC-588A5EA3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9381-131F-4C04-ABE3-A67C62E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FD4A-3C66-4D58-B960-C1E1F082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D34B-5739-418B-8C93-00FC502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5347-9C7A-42B8-B18F-891B3BA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5EEB-8D8D-42D0-9970-31F63951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C8CC-7631-4954-9F2C-1C3DA875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186B-82F3-4E29-A833-6C4540F9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E8BA-0AFF-4272-A02F-6966A13D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6D54-CB2D-4270-A1CA-3FA02694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6E1-D418-496D-A275-006D4A07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A11F-77F0-43BC-9EC7-7BA0BCA8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97FC-6E2F-4A5B-A1FA-696A1CE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2C0BA-3E26-4E8A-9AEA-9BAFAB54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C5115-E6D9-4471-A86A-D65704B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297A-258F-4DA5-A860-F1D042A3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DF75-8904-4128-96C6-ECC5D5C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6545-7EBC-4BD2-864E-93CEC8F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8BAA-6992-410A-A515-65BA7EC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E38A-588C-4DE8-999B-05D5FB8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6E54-E6A7-426E-AD3C-4D900821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DFC-6EC5-4764-A5AA-FDA0691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6339-00D9-479D-8C75-F2D121CE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6E050-DCEC-4A97-B48B-0512AC6D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68818-6955-44DC-9FF2-13F3BD08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CDE6D-940E-440E-81DB-305CE9C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A1164-7BA2-45E1-90BB-5E1E9A4F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AD79-87B5-4B87-B952-079714AF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4C65-D7BA-4FB8-A98D-A356AB7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95D7-4EBA-4C51-9D48-8F79540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485A-DFEF-464A-8E74-D9B7B5A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CA6BA-4D3C-4604-8316-B503290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3E4-24F4-4D4A-B620-3A24149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1B4D-10C2-4FA5-8DF4-68B4F905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91DF-ACBA-4335-BD93-EC650C53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B964-3C1C-4AD6-AE69-DF3AFF09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B3A-99F7-41A3-8AD2-574D0D8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C4C-622A-4B4F-A244-6FDB5DC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7E61-D6AB-49B6-81F8-226274766C6D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5F30-462E-4FEB-8AE6-C1610A92F83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254-8E9E-4C4A-BA5A-E74C0BDB81BD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4B51-E792-4E31-BDA5-48CA08B6C32D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9A24-B398-4BB2-A976-B97DFD0098B5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B046-DE80-41F2-93CB-40DEB96FF29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61080" cy="3706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23640" y="4076280"/>
            <a:ext cx="8458200" cy="25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έτρος Π. Καριώτογλου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ιδαγωγική Σχολή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νεπιστήμιο Δυτικής Μακεδονίας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δακτικές – μαθησιακές ακολουθίες: συνέπεια και του αδιεξόδου των εναλλακτικών ιδεών μαθητών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ΠΕ στην εκπαίδευση ΦΕ: συνέπεια της τεχνολογικής εξέλιξ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ργαστηριακή διδασκαλία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quiry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ολιστική θεώρηση και έμφαση στις διαδικασί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ντέλα και Μοντελοποίηση στην εκπαίδευση των ΦΕ: ολιστική θεώρηση και πρόταση της ψυχολογία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λέτη διαλόγων, επιχειρηματολογία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gumenta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 και κατασκευής νοήματος στη διδασκαλία ΦΕ: διεύρυνση της κατανόησης + διαδικαστική γνώ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00040" y="571320"/>
            <a:ext cx="795816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ΙΣΤΟΡΙΚΑ ΔΙΑΜΟΡΦΩΜΕΝΑ ΡΕΥΜΑΤΑ ΤΗΣ ΔΙΔΑΚΤΙΚΗΣ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ΔΙΔΑΚΤΙΚΗ ΠΡΟΤΑ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ΚΠΑΙΔΕΥΤΙΚΗ ΠΟΛΙΤΙΚ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ΠΙΣΤΗΜΟΛΟΓΙΚΗ ΘΕΩΡΗΣΗ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1026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09040" cy="1365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240" y="1714320"/>
            <a:ext cx="862956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υριαρχία του επιστημονικού περιεχομένου – Επιστήμη στο επίκεντρο της συζήτησης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είραμα ως επιβεβαίωση της θεωρία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πίδειξη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ιδακτικό Μοντέλο Μεταφοράς, ως συνέπεια των συμπεριφοριστικών απόψεων για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ρευνα και Πράξη συγκλίνου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71320" y="571680"/>
            <a:ext cx="8001000" cy="564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ώτ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πάλι βλέπει από τη μεριά της Επιστήμης / Επιστημόνων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tnik shock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ίδρα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ner &amp; Piage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… «ο μαθητής ως μικρός επιστήμονας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ovative Curricula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μαθητής αρχίζει να μπαίνει στο επίκεντρο της συζήτησ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Θετικά σε συναισθηματικό και ψυχοκινητικό επίπεδο, θετικές στάσεις ως προς τις ΦΕ, αλλά πενιχρά γνωστικά αποτελέσματα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εκπαιδευτική πράξη αποκλίνει από τη έρευνα και τη θεωρία – Παράγοντες που αιτιολογούν την απόκλιση (χρόνος, επιμόρφωση εκπαιδευτικών, …. ).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28760" y="642600"/>
            <a:ext cx="8143920" cy="56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δεύτερ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αυτή τη φορά κοιτάει προς τους μαθητές / τριε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1026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1438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κίνημα των εναλλακτικών / διαισθητικών ιδεών: π.χ. «η κίνηση είναι αποτέλεσμα της δύναμης» και οι πολλαπλές και αποκλίνουσες απόπειρες αξιοποίησής τους στη διδασκαλία: εννοιολογική αλλαγή με γνωστική σύγκρουση, ενίσχυση των ιδεών, χρήση αναλογιών, γεφύρωση κλπ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 μαθητής κατασκευάζει τη γνώση του ατομικά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aget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ή  κοινωνικά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ygotski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ημαντική η επίδραση των Τεχνολογιών της Πληροφορίας και της Επικοινωνίας, ως εργαλείο αλλαγής των ιδεών των μαθητών 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Τα περισσότερα θετικά, αλλά μη γενικεύσιμ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Η Έρευνα τροφοδοτεί  την πράξη, αλλά η πράξη…. δύσκολα αλλάζει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ριτική στον εποικοδομητισμό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682560" y="1127160"/>
            <a:ext cx="77724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701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ό το κίνημα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(cience) T(echnology) S(ociety)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, του 1960, και το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SE(nvironment)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τις νεότερες απόψεις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Μια πρόταση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. Millar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: Βασικές έννοιες και Μοντέλα π.χ. Ηλιακό σύστημα, Στοιχεία της επιστημονικής μεθόδου, Στοιχεία εξέλιξης των ιδεών – εννοιών της επιστήμης, Επιπτώσεις στην κοινωνία.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υρίαρχο στοιχείο το δημοκρατικό επιχείρημα: σε μια τεχνολογική κοινωνία οι πολίτες πρέπει να είναι σε θέση να συμμετέχουν στη λήψη αποφάσεων για σχετικά θέματα: κλωνοποίηση, απόβλητα, ηλεκτρομαγνητική ακτινοβολία (κεραίες)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κλίνουσες τάσεις μεταξύ περιεχομένου και επιπτώσεων στην κοινωνί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εσωτερικές αντιφάσεις των προτάσεων και μια πιθανή λύση: ανάλογα με τα τεχνολογικά μοντέλα η ανάδειξη αντίστοιχων διδακτικών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9T10:46:08Z</dcterms:modified>
  <cp:revision>167</cp:revision>
  <dc:subject/>
  <dc:title>Κρίσιμα Ερωτήματα</dc:title>
</cp:coreProperties>
</file>